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F4D426-2EE1-4295-B98A-FD6638798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lusc data: Euclidean distance among stations based on mean values of log of first 15 mollusc spp.  Top, BP, bottom, 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27080" y="2374920"/>
            <a:ext cx="1360440" cy="749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toplankt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terotro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936800" y="1212840"/>
            <a:ext cx="137808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utrient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c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184560" y="365040"/>
            <a:ext cx="269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wage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46680" y="1212840"/>
            <a:ext cx="119052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spen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d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631880" y="2432160"/>
            <a:ext cx="136836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ic alg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079800" y="2432160"/>
            <a:ext cx="151596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ef cal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594400" y="4794120"/>
            <a:ext cx="136836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s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4200" y="4794120"/>
            <a:ext cx="147636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ress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nsi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41720" y="3544920"/>
            <a:ext cx="1263600" cy="7873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ding or over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re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737400" y="2432160"/>
            <a:ext cx="164448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richmen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ttom sedi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863960" y="2325600"/>
            <a:ext cx="167472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unda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os inclu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e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9840" y="3594240"/>
            <a:ext cx="1665360" cy="53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oxia or hypox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water colu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361280" y="4794120"/>
            <a:ext cx="117324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oxia 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rfac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di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760" y="4813200"/>
            <a:ext cx="1428840" cy="96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all or m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lagic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ic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183440" y="3498840"/>
            <a:ext cx="177336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tera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diment chem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966000" y="5937120"/>
            <a:ext cx="190188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ress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st benthic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90920" y="762120"/>
            <a:ext cx="190476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762120"/>
            <a:ext cx="182880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85800" y="1828800"/>
            <a:ext cx="190512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172200" y="3048120"/>
            <a:ext cx="1295280" cy="1752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3048120"/>
            <a:ext cx="51264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961240" y="1793880"/>
            <a:ext cx="365040" cy="531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182880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362320" y="18288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724280" y="3124080"/>
            <a:ext cx="990720" cy="1676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3124080"/>
            <a:ext cx="146160" cy="4636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921800" y="5572080"/>
            <a:ext cx="2880" cy="3715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921800" y="4095720"/>
            <a:ext cx="2880" cy="7048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67480" y="30481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976320" y="4114800"/>
            <a:ext cx="14400" cy="6793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048120"/>
            <a:ext cx="48420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34200" y="1793880"/>
            <a:ext cx="1209600" cy="620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172200" y="4071960"/>
            <a:ext cx="1757520" cy="728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724280" y="4071960"/>
            <a:ext cx="3197520" cy="728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0000" y="5937120"/>
            <a:ext cx="1515960" cy="57456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tion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enthic d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5562720"/>
            <a:ext cx="68580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10080" y="5580000"/>
            <a:ext cx="844560" cy="363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15840" y="664380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55880" y="4813200"/>
            <a:ext cx="1330200" cy="749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portunis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879560" y="5956200"/>
            <a:ext cx="1468440" cy="53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duction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lagic d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5562720"/>
            <a:ext cx="4680" cy="398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1080" y="3581280"/>
            <a:ext cx="304920" cy="1219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838080" y="312408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613320" y="3544920"/>
            <a:ext cx="1263600" cy="574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gradation of re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786120" y="1136520"/>
            <a:ext cx="1398600" cy="7873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imul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toplankton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terotro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33600" y="1523880"/>
            <a:ext cx="452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1539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7402680" cy="5638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-473040" y="2879640"/>
            <a:ext cx="2860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mmonium (ug-at/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94040" y="6004080"/>
            <a:ext cx="2690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ance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480" y="662940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84160" y="304920"/>
            <a:ext cx="7802640" cy="5867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965240" y="441360"/>
            <a:ext cx="2030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rbers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927760" y="4413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nd Is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1844640" y="3108240"/>
            <a:ext cx="475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xidation-reduction potential (m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736640" y="6126120"/>
            <a:ext cx="2570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(west to e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22840" y="6126120"/>
            <a:ext cx="2570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(west to ea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7240" y="657072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417840"/>
            <a:ext cx="4572000" cy="2982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-244440" y="2681280"/>
            <a:ext cx="3168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uclidean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981080" y="9360"/>
            <a:ext cx="4572000" cy="34797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57240" y="6570720"/>
            <a:ext cx="22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:\ALL\MAMEA\RPT\MB10WJKA.PPT FIG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m Kimmerer</dc:creator>
  <dc:description>Figures for evaluation sheets</dc:description>
  <dc:language>en-US</dc:language>
  <cp:lastModifiedBy>Preferred Customer</cp:lastModifiedBy>
  <cp:revision>0</cp:revision>
  <dc:subject>Mamala MB10</dc:subject>
  <dc:title>Short figure set</dc:title>
</cp:coreProperties>
</file>